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991-3B86-425B-A6A8-69A9700A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E76-2009-42FE-827D-82648F7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795-4F74-4FAB-ACED-390401A0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DA8-FC00-4E42-93E8-7D835300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3B17-AE25-433F-AFC0-B788DC44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9533-B1C1-497D-B64C-1EF77693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964B-5AE2-4081-96CD-6DE6641E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0B33-B11E-4001-8AA7-B4503861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3B8B-7910-4F9C-B1A9-F160D670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2F1D-54AC-4677-9489-C3BE105E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2907-0E78-4745-B1AF-1D55DAA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089-EA6C-479B-B58F-A1021B7D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2859-42B5-4CEB-9D5F-61C3C5D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DBE-4A22-4574-8C70-AE531D2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F0B9-5C4A-42FB-A5C6-156DFEE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0FBE-2BDA-478D-95EC-05CE55F6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8A23-BC86-4E6D-B45E-48B64824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2A7-216D-4DEB-9900-C74DA9E3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363-3AC8-45C1-AB00-73586D9A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28E-2D15-4D81-9A98-D675FB3D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7A7-927E-44BE-BE28-7B6061C3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A24-28CB-4AC4-9F6B-F7868BC6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C89-8C07-4817-BB8E-3633F8C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808-3FAA-412F-BE99-E3FED91D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5BF8-E317-44C2-87E6-496568AC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525-D11F-4D14-AAFC-22286900291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silio Ficino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5" descr="Marsilio_Ficino"/>
          <p:cNvPicPr/>
          <p:nvPr/>
        </p:nvPicPr>
        <p:blipFill>
          <a:blip r:embed="rId1"/>
          <a:stretch/>
        </p:blipFill>
        <p:spPr>
          <a:xfrm>
            <a:off x="1371600" y="2286000"/>
            <a:ext cx="2381400" cy="292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arsilio%20Ficino"/>
          <p:cNvPicPr/>
          <p:nvPr/>
        </p:nvPicPr>
        <p:blipFill>
          <a:blip r:embed="rId2"/>
          <a:stretch/>
        </p:blipFill>
        <p:spPr>
          <a:xfrm>
            <a:off x="5181480" y="2362320"/>
            <a:ext cx="2463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59092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1752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Red Line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Republic of Floren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order li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lack Dot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irthplace of Ficin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rown Dot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Place Ficino Di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Green Dot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The city Florence &amp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here Platoni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Academy 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3:13:37Z</dcterms:created>
  <dc:creator>bbc</dc:creator>
  <dc:description/>
  <dc:language>en-US</dc:language>
  <cp:lastModifiedBy>Keith Pagnotto-Hammit</cp:lastModifiedBy>
  <dcterms:modified xsi:type="dcterms:W3CDTF">2010-11-12T12:16:57Z</dcterms:modified>
  <cp:revision>3</cp:revision>
  <dc:subject/>
  <dc:title>Marsilio Ficino</dc:title>
</cp:coreProperties>
</file>